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9F1-06D5-45E7-A2B5-3C1DAE4E17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AE7-67F8-4C2A-A7A7-744DCDD40349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774-E56F-458B-B52D-0BBFEE1F8565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переменной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73E-7324-4350-AA81-BF521306855F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1B1-6102-498A-B4B4-4BAD2087AEAF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48C-7760-4814-86E7-5148B3ABE05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пояснить связь первообразной и производной, затем таблицу производных прокомментировать справа налево, потом перейти к интегр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EE6-4A7D-47BA-870D-77D016AA0268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D89-69E5-4E67-8F0D-F4981E6A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56E-8746-4332-A9CA-51BC33A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E80-BC59-4D97-A5ED-93572DDF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4F6-0770-439E-8232-09D33544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7408-D705-4E9E-9AF7-D37AC6DE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4658-2D57-42CC-8DF5-F6BC3CC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E2E8-648F-4897-ACD6-7338412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0E93-8DC8-4171-A2CE-0ACD95E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E6F0-5E0D-4756-BC47-F9332948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1FF-EDB7-4926-BE0E-35B4271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FF8C-0823-47D5-AB78-1257022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5FA-9DFF-44F4-85DA-6E38470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A0E0-36AD-4FBA-A389-5BA2E85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649-939C-4A23-BE01-5AEDD0A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763F-180C-4970-BFF0-9E1D1819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5245-EC8B-496E-BA63-2E05C7C4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1BC0-4A3B-47B9-AA17-77C80CD4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243-EC3A-4758-BF75-B5F25EE4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45E-809A-4EBC-AE54-1B03C96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972-47A0-4AB1-B6FC-65A6D1C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759-57C4-4F8D-BE72-F0B0F2E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C66-C3AF-4ADE-85B6-ECFD85D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19E-43C7-45FA-8EDE-C88A4AE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8D2-BED8-4F78-AABD-5D5BCA04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0E1-0453-4076-A53D-2BE6690D9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1DE-40C6-4FAC-BFE9-4C560EB30682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hyperlink" Target="http://machinelearning.ru/wiki/index.php?title=&#1048;&#1079;&#1086;&#1073;&#1088;&#1072;&#1078;&#1077;&#1085;&#1080;&#1077;:Q11.png" TargetMode="External"/><Relationship Id="rId6" Type="http://schemas.openxmlformats.org/officeDocument/2006/relationships/image" Target="../media/image10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тегральное исчис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851280" y="2205000"/>
                <a:ext cx="259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924360" y="3500280"/>
                <a:ext cx="266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dχ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2916360" y="4581360"/>
                <a:ext cx="461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28" name="Picture 7" descr="j0212957"/>
          <p:cNvPicPr/>
          <p:nvPr/>
        </p:nvPicPr>
        <p:blipFill>
          <a:blip r:embed="rId1"/>
          <a:stretch/>
        </p:blipFill>
        <p:spPr>
          <a:xfrm flipH="1">
            <a:off x="1186920" y="5877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j0212957"/>
          <p:cNvPicPr/>
          <p:nvPr/>
        </p:nvPicPr>
        <p:blipFill>
          <a:blip r:embed="rId2"/>
          <a:stretch/>
        </p:blipFill>
        <p:spPr>
          <a:xfrm flipH="1">
            <a:off x="684360" y="60213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j0212957"/>
          <p:cNvPicPr/>
          <p:nvPr/>
        </p:nvPicPr>
        <p:blipFill>
          <a:blip r:embed="rId3"/>
          <a:stretch/>
        </p:blipFill>
        <p:spPr>
          <a:xfrm flipH="1">
            <a:off x="1763640" y="587700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4284720" y="56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Инвариантность !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507672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076720" y="407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4720" y="5661000"/>
            <a:ext cx="2303280" cy="576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112 -0.1463 C 0.21893 -0.11968 0.22691 -0.09283 0.19167 -0.06852 C 0.15643 -0.04421 0.07813 -0.02222 -1.94444E-006 2.96296E-006 E">
                                      <p:cBhvr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21 -0.14259 C 0.39461 -0.10463 0.41336 -0.06643 0.35069 -0.04259 C 0.28802 -0.01875 0.14392 -0.00949 4.72222E-006 -2.59259E-006 E">
                                      <p:cBhvr>
                                        <p:cTn id="30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528 -0.16297 C 0.64913 -0.11366 0.68316 -0.06412 0.58038 -0.03704 C 0.47795 -0.00996 0.23871 -0.0051 1.66667E-006 7.40741E-007 E">
                                      <p:cBhvr>
                                        <p:cTn id="31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77058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1116000" y="2349360"/>
          <a:ext cx="15908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9360"/>
                    <a:ext cx="1590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Объект 6"/>
          <p:cNvGraphicFramePr/>
          <p:nvPr/>
        </p:nvGraphicFramePr>
        <p:xfrm>
          <a:off x="1042920" y="3573360"/>
          <a:ext cx="3319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573360"/>
                    <a:ext cx="3319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1" name="Содержимое 7"/>
              <p:cNvSpPr txBox="1"/>
              <p:nvPr/>
            </p:nvSpPr>
            <p:spPr>
              <a:xfrm>
                <a:off x="5580000" y="2421000"/>
                <a:ext cx="207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Объект 8"/>
          <p:cNvGraphicFramePr/>
          <p:nvPr/>
        </p:nvGraphicFramePr>
        <p:xfrm>
          <a:off x="826920" y="4653000"/>
          <a:ext cx="5153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515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Объект 10"/>
          <p:cNvGraphicFramePr/>
          <p:nvPr/>
        </p:nvGraphicFramePr>
        <p:xfrm>
          <a:off x="5945040" y="3789360"/>
          <a:ext cx="9306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3789360"/>
                    <a:ext cx="9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11"/>
          <p:cNvGraphicFramePr/>
          <p:nvPr/>
        </p:nvGraphicFramePr>
        <p:xfrm>
          <a:off x="2184480" y="5715000"/>
          <a:ext cx="1798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4480" y="5715000"/>
                    <a:ext cx="179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18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905120"/>
            <a:ext cx="48448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 формулу (10)   из таблицы основных интегра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2920" y="1734840"/>
            <a:ext cx="4249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Объект 6"/>
          <p:cNvGraphicFramePr/>
          <p:nvPr/>
        </p:nvGraphicFramePr>
        <p:xfrm>
          <a:off x="1042920" y="2349360"/>
          <a:ext cx="16272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6272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Содержимое 7"/>
          <p:cNvGraphicFramePr/>
          <p:nvPr/>
        </p:nvGraphicFramePr>
        <p:xfrm>
          <a:off x="4716360" y="2060640"/>
          <a:ext cx="41036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Содержимое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060640"/>
                    <a:ext cx="4103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Объект 8"/>
          <p:cNvGraphicFramePr/>
          <p:nvPr/>
        </p:nvGraphicFramePr>
        <p:xfrm>
          <a:off x="3924360" y="4437000"/>
          <a:ext cx="3917880" cy="114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437000"/>
                    <a:ext cx="3917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Объект 9"/>
          <p:cNvGraphicFramePr/>
          <p:nvPr/>
        </p:nvGraphicFramePr>
        <p:xfrm>
          <a:off x="1835280" y="5445000"/>
          <a:ext cx="19922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445000"/>
                    <a:ext cx="1992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 РАЗЛОЖЕНИЕ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сновывается на применении свойства  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560" y="1989000"/>
            <a:ext cx="4249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Содержимое 5"/>
          <p:cNvGraphicFramePr/>
          <p:nvPr/>
        </p:nvGraphicFramePr>
        <p:xfrm>
          <a:off x="6084720" y="2060640"/>
          <a:ext cx="287028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28702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Объект 6"/>
          <p:cNvGraphicFramePr/>
          <p:nvPr/>
        </p:nvGraphicFramePr>
        <p:xfrm>
          <a:off x="611280" y="2349360"/>
          <a:ext cx="148104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49360"/>
                    <a:ext cx="1481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Объект 8"/>
          <p:cNvGraphicFramePr/>
          <p:nvPr/>
        </p:nvGraphicFramePr>
        <p:xfrm>
          <a:off x="179280" y="3500280"/>
          <a:ext cx="56199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500280"/>
                    <a:ext cx="5619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9"/>
          <p:cNvGraphicFramePr/>
          <p:nvPr/>
        </p:nvGraphicFramePr>
        <p:xfrm>
          <a:off x="1042920" y="4437000"/>
          <a:ext cx="342432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437000"/>
                    <a:ext cx="3424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Прямая соединительная линия 11"/>
          <p:cNvSpPr/>
          <p:nvPr/>
        </p:nvSpPr>
        <p:spPr>
          <a:xfrm>
            <a:off x="5724360" y="2060640"/>
            <a:ext cx="61920" cy="3889440"/>
          </a:xfrm>
          <a:prstGeom prst="line">
            <a:avLst/>
          </a:prstGeom>
          <a:ln w="63360">
            <a:solidFill>
              <a:srgbClr val="26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5796000" y="4221000"/>
            <a:ext cx="2952720" cy="0"/>
          </a:xfrm>
          <a:prstGeom prst="line">
            <a:avLst/>
          </a:prstGeom>
          <a:ln w="31680">
            <a:solidFill>
              <a:srgbClr val="26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Объект 19"/>
          <p:cNvGraphicFramePr/>
          <p:nvPr/>
        </p:nvGraphicFramePr>
        <p:xfrm>
          <a:off x="1116000" y="5732640"/>
          <a:ext cx="3346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2640"/>
                    <a:ext cx="3346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4572000" y="4869000"/>
            <a:ext cx="1800360" cy="28872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5" name="Объект 21"/>
          <p:cNvGraphicFramePr/>
          <p:nvPr/>
        </p:nvGraphicFramePr>
        <p:xfrm>
          <a:off x="6588000" y="4292640"/>
          <a:ext cx="2017800" cy="140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292640"/>
                    <a:ext cx="2017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22"/>
          <p:cNvSpPr/>
          <p:nvPr/>
        </p:nvSpPr>
        <p:spPr>
          <a:xfrm>
            <a:off x="4577040" y="6135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8" name="Объект 23"/>
          <p:cNvGraphicFramePr/>
          <p:nvPr/>
        </p:nvGraphicFramePr>
        <p:xfrm>
          <a:off x="5940360" y="5805360"/>
          <a:ext cx="185580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5805360"/>
                    <a:ext cx="1855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302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интеграл удается  "свести" к табличному за счет некоторых преобразований в выражениях под знаком дифференциала. При этом часто используются  следующие форму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Содержимое 5"/>
          <p:cNvGraphicFramePr/>
          <p:nvPr/>
        </p:nvGraphicFramePr>
        <p:xfrm>
          <a:off x="471600" y="2852640"/>
          <a:ext cx="2352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852640"/>
                    <a:ext cx="2352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6"/>
          <p:cNvGraphicFramePr/>
          <p:nvPr/>
        </p:nvGraphicFramePr>
        <p:xfrm>
          <a:off x="3125880" y="3056040"/>
          <a:ext cx="20286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056040"/>
                    <a:ext cx="2028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7"/>
          <p:cNvGraphicFramePr/>
          <p:nvPr/>
        </p:nvGraphicFramePr>
        <p:xfrm>
          <a:off x="5011560" y="3557520"/>
          <a:ext cx="22608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1560" y="3557520"/>
                    <a:ext cx="2260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8"/>
          <p:cNvGraphicFramePr/>
          <p:nvPr/>
        </p:nvGraphicFramePr>
        <p:xfrm>
          <a:off x="295200" y="3629160"/>
          <a:ext cx="222732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200" y="3629160"/>
                    <a:ext cx="2227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9"/>
          <p:cNvGraphicFramePr/>
          <p:nvPr/>
        </p:nvGraphicFramePr>
        <p:xfrm>
          <a:off x="2676600" y="3629160"/>
          <a:ext cx="1950840" cy="97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3629160"/>
                    <a:ext cx="19508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3564000" y="4653000"/>
          <a:ext cx="29638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653000"/>
                    <a:ext cx="2963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Объект 11"/>
          <p:cNvGraphicFramePr/>
          <p:nvPr/>
        </p:nvGraphicFramePr>
        <p:xfrm>
          <a:off x="250920" y="4738680"/>
          <a:ext cx="28303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738680"/>
                    <a:ext cx="2830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Объект 12"/>
          <p:cNvGraphicFramePr/>
          <p:nvPr/>
        </p:nvGraphicFramePr>
        <p:xfrm>
          <a:off x="3132000" y="5500800"/>
          <a:ext cx="2367000" cy="90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5500800"/>
                    <a:ext cx="2367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3"/>
          <p:cNvGraphicFramePr/>
          <p:nvPr/>
        </p:nvGraphicFramePr>
        <p:xfrm>
          <a:off x="210960" y="5500800"/>
          <a:ext cx="2787840" cy="93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960" y="5500800"/>
                    <a:ext cx="2787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14"/>
          <p:cNvGraphicFramePr/>
          <p:nvPr/>
        </p:nvGraphicFramePr>
        <p:xfrm>
          <a:off x="5616720" y="5487840"/>
          <a:ext cx="332892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16720" y="5487840"/>
                    <a:ext cx="3328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т факт, что если известен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2293920" y="2405160"/>
          <a:ext cx="3433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05160"/>
                    <a:ext cx="3433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7"/>
          <p:cNvSpPr/>
          <p:nvPr/>
        </p:nvSpPr>
        <p:spPr>
          <a:xfrm>
            <a:off x="246960" y="335772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авенств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07" name="Объект 8"/>
          <p:cNvGraphicFramePr/>
          <p:nvPr/>
        </p:nvGraphicFramePr>
        <p:xfrm>
          <a:off x="3083040" y="3219480"/>
          <a:ext cx="31255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3219480"/>
                    <a:ext cx="3125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9"/>
          <p:cNvSpPr/>
          <p:nvPr/>
        </p:nvSpPr>
        <p:spPr>
          <a:xfrm>
            <a:off x="250920" y="4089240"/>
            <a:ext cx="82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т справедливым для любой дифференцируемой функции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0" name="Объект 10"/>
          <p:cNvGraphicFramePr/>
          <p:nvPr/>
        </p:nvGraphicFramePr>
        <p:xfrm>
          <a:off x="3084480" y="4606920"/>
          <a:ext cx="1611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4606920"/>
                    <a:ext cx="16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Прямоугольник 12"/>
          <p:cNvSpPr/>
          <p:nvPr/>
        </p:nvSpPr>
        <p:spPr>
          <a:xfrm>
            <a:off x="250920" y="5157720"/>
            <a:ext cx="2952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Найти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189000" y="6156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4" name="Объект 14"/>
          <p:cNvGraphicFramePr/>
          <p:nvPr/>
        </p:nvGraphicFramePr>
        <p:xfrm>
          <a:off x="2627280" y="5157720"/>
          <a:ext cx="135576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157720"/>
                    <a:ext cx="1355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Объект 15"/>
          <p:cNvGraphicFramePr/>
          <p:nvPr/>
        </p:nvGraphicFramePr>
        <p:xfrm>
          <a:off x="2471760" y="5715000"/>
          <a:ext cx="63673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1760" y="5715000"/>
                    <a:ext cx="636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332000" y="2444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20" name="Объект 1"/>
          <p:cNvGraphicFramePr/>
          <p:nvPr/>
        </p:nvGraphicFramePr>
        <p:xfrm>
          <a:off x="3348000" y="1628640"/>
          <a:ext cx="1687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687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Объект 2"/>
          <p:cNvGraphicFramePr/>
          <p:nvPr/>
        </p:nvGraphicFramePr>
        <p:xfrm>
          <a:off x="539640" y="3213000"/>
          <a:ext cx="39657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213000"/>
                    <a:ext cx="3965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Объект 3"/>
          <p:cNvGraphicFramePr/>
          <p:nvPr/>
        </p:nvGraphicFramePr>
        <p:xfrm>
          <a:off x="468360" y="4869000"/>
          <a:ext cx="382428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38242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Объект 9"/>
          <p:cNvGraphicFramePr/>
          <p:nvPr/>
        </p:nvGraphicFramePr>
        <p:xfrm>
          <a:off x="5054760" y="3986280"/>
          <a:ext cx="3787560" cy="95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4760" y="3986280"/>
                    <a:ext cx="3787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2"/>
          <p:cNvSpPr/>
          <p:nvPr/>
        </p:nvSpPr>
        <p:spPr>
          <a:xfrm>
            <a:off x="5003640" y="4076640"/>
            <a:ext cx="3889440" cy="100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AutoShape 23"/>
          <p:cNvSpPr/>
          <p:nvPr/>
        </p:nvSpPr>
        <p:spPr>
          <a:xfrm rot="2340600">
            <a:off x="4051440" y="4392720"/>
            <a:ext cx="1058760" cy="155520"/>
          </a:xfrm>
          <a:prstGeom prst="rightArrow">
            <a:avLst>
              <a:gd name="adj1" fmla="val 50000"/>
              <a:gd name="adj2" fmla="val 6218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3710160" y="6012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31" name="Объект 13"/>
          <p:cNvGraphicFramePr/>
          <p:nvPr/>
        </p:nvGraphicFramePr>
        <p:xfrm>
          <a:off x="5149800" y="5856120"/>
          <a:ext cx="1827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9800" y="5856120"/>
                    <a:ext cx="182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628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1"/>
          <p:cNvGraphicFramePr/>
          <p:nvPr/>
        </p:nvGraphicFramePr>
        <p:xfrm>
          <a:off x="900000" y="2492280"/>
          <a:ext cx="227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27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 txBox="1"/>
          <p:nvPr/>
        </p:nvSpPr>
        <p:spPr>
          <a:xfrm>
            <a:off x="5105160" y="1905120"/>
            <a:ext cx="3429000" cy="109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3280" y="4183200"/>
            <a:ext cx="3745080" cy="1117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Объект 3"/>
              <p:cNvSpPr txBox="1"/>
              <p:nvPr/>
            </p:nvSpPr>
            <p:spPr>
              <a:xfrm>
                <a:off x="5435640" y="1916280"/>
                <a:ext cx="31766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Объект 5"/>
          <p:cNvGraphicFramePr/>
          <p:nvPr/>
        </p:nvGraphicFramePr>
        <p:xfrm>
          <a:off x="5580000" y="4292640"/>
          <a:ext cx="2759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759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Объект 8"/>
          <p:cNvGraphicFramePr/>
          <p:nvPr/>
        </p:nvGraphicFramePr>
        <p:xfrm>
          <a:off x="2268360" y="3213000"/>
          <a:ext cx="3310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213000"/>
                    <a:ext cx="3310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23"/>
          <p:cNvSpPr/>
          <p:nvPr/>
        </p:nvSpPr>
        <p:spPr>
          <a:xfrm rot="2340600">
            <a:off x="4051080" y="4254120"/>
            <a:ext cx="1058760" cy="154080"/>
          </a:xfrm>
          <a:prstGeom prst="rightArrow">
            <a:avLst>
              <a:gd name="adj1" fmla="val 50000"/>
              <a:gd name="adj2" fmla="val 6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5" name="Объект 9"/>
          <p:cNvGraphicFramePr/>
          <p:nvPr/>
        </p:nvGraphicFramePr>
        <p:xfrm>
          <a:off x="503280" y="4221000"/>
          <a:ext cx="3246480" cy="223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4221000"/>
                    <a:ext cx="324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оугольник 10"/>
          <p:cNvSpPr/>
          <p:nvPr/>
        </p:nvSpPr>
        <p:spPr>
          <a:xfrm>
            <a:off x="3637800" y="5940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8" name="Объект 11"/>
          <p:cNvGraphicFramePr/>
          <p:nvPr/>
        </p:nvGraphicFramePr>
        <p:xfrm>
          <a:off x="5011560" y="5729400"/>
          <a:ext cx="2468880" cy="7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1560" y="5729400"/>
                    <a:ext cx="24688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          некоторая первообразная для функции          . 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           некоторые чис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Объект 5"/>
          <p:cNvGraphicFramePr/>
          <p:nvPr/>
        </p:nvGraphicFramePr>
        <p:xfrm>
          <a:off x="2916360" y="1989000"/>
          <a:ext cx="1042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042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Объект 6"/>
          <p:cNvGraphicFramePr/>
          <p:nvPr/>
        </p:nvGraphicFramePr>
        <p:xfrm>
          <a:off x="1908000" y="2492280"/>
          <a:ext cx="782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492280"/>
                    <a:ext cx="782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Объект 8"/>
          <p:cNvGraphicFramePr/>
          <p:nvPr/>
        </p:nvGraphicFramePr>
        <p:xfrm>
          <a:off x="4027320" y="2349360"/>
          <a:ext cx="438480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7320" y="2349360"/>
                    <a:ext cx="4384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Объект 9"/>
          <p:cNvGraphicFramePr/>
          <p:nvPr/>
        </p:nvGraphicFramePr>
        <p:xfrm>
          <a:off x="1476360" y="3141720"/>
          <a:ext cx="9763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141720"/>
                    <a:ext cx="976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Объект 10"/>
          <p:cNvGraphicFramePr/>
          <p:nvPr/>
        </p:nvGraphicFramePr>
        <p:xfrm>
          <a:off x="5508720" y="3141720"/>
          <a:ext cx="104436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3141720"/>
                    <a:ext cx="1044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2"/>
          <p:cNvSpPr/>
          <p:nvPr/>
        </p:nvSpPr>
        <p:spPr>
          <a:xfrm>
            <a:off x="2484360" y="3770280"/>
            <a:ext cx="3959280" cy="59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002400" y="378936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ные случа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64" name="Объект 13"/>
          <p:cNvGraphicFramePr/>
          <p:nvPr/>
        </p:nvGraphicFramePr>
        <p:xfrm>
          <a:off x="468360" y="4508640"/>
          <a:ext cx="43578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08640"/>
                    <a:ext cx="4357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Объект 14"/>
          <p:cNvGraphicFramePr/>
          <p:nvPr/>
        </p:nvGraphicFramePr>
        <p:xfrm>
          <a:off x="5148360" y="4581360"/>
          <a:ext cx="367668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4581360"/>
                    <a:ext cx="36766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16"/>
          <p:cNvGraphicFramePr/>
          <p:nvPr/>
        </p:nvGraphicFramePr>
        <p:xfrm>
          <a:off x="2627280" y="5661000"/>
          <a:ext cx="3186000" cy="90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9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7280" y="5661000"/>
                    <a:ext cx="318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на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а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268360" y="2349360"/>
                <a:ext cx="3516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фференцируем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411280" y="4797360"/>
                <a:ext cx="3360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340000" y="3933720"/>
                <a:ext cx="354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987640" y="5553000"/>
                <a:ext cx="133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10"/>
          <p:cNvSpPr/>
          <p:nvPr/>
        </p:nvSpPr>
        <p:spPr>
          <a:xfrm>
            <a:off x="3059280" y="5229360"/>
            <a:ext cx="57600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3780000" y="5229360"/>
            <a:ext cx="93636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4211640" y="5516640"/>
                <a:ext cx="178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5"/>
          <p:cNvSpPr/>
          <p:nvPr/>
        </p:nvSpPr>
        <p:spPr>
          <a:xfrm>
            <a:off x="6084720" y="5659560"/>
            <a:ext cx="358920" cy="73080"/>
          </a:xfrm>
          <a:prstGeom prst="rightArrow">
            <a:avLst>
              <a:gd name="adj1" fmla="val 50000"/>
              <a:gd name="adj2" fmla="val 12278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6588000" y="5373720"/>
                <a:ext cx="215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6948360" y="6093000"/>
                <a:ext cx="1897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6828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образ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             в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определена в      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19640" y="2276640"/>
                <a:ext cx="718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3851280" y="4076640"/>
                <a:ext cx="16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132000" y="3500280"/>
                <a:ext cx="7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148360" y="2781360"/>
                <a:ext cx="799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516720" y="278136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56360" y="3429000"/>
                <a:ext cx="89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692360" y="5157720"/>
                <a:ext cx="6529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68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835280" y="2413080"/>
                <a:ext cx="6243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1919160" y="4084560"/>
                <a:ext cx="5302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ACB-1C2C-4BC7-900B-2A29E8F50D55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ИНТЕГРИРОВАНИЕ  ПОДСТАНОВ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ля нахождения  интеграла        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функцию           так, чтобы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 она возрастала или убывала на рассматриваемом промежутке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 имела производ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 был известен интег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извольная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5651640" y="1700280"/>
          <a:ext cx="1368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1368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2268360" y="2652840"/>
          <a:ext cx="143856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2840"/>
                    <a:ext cx="14385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427640" y="2668680"/>
          <a:ext cx="2089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668680"/>
                    <a:ext cx="2089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3635280" y="3141720"/>
          <a:ext cx="79236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41720"/>
                    <a:ext cx="79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2268360" y="5877000"/>
          <a:ext cx="4464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877000"/>
                    <a:ext cx="446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B7DF-F125-4DDC-BAE7-A83964821EF6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78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хождения интеграла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дифференцируемую функцию        так, чтобы новое подынтегральное выражение                   было легко интегрируем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971640" y="1844640"/>
          <a:ext cx="439236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439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8"/>
          <p:cNvGraphicFramePr/>
          <p:nvPr/>
        </p:nvGraphicFramePr>
        <p:xfrm>
          <a:off x="755640" y="2637000"/>
          <a:ext cx="64764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637000"/>
                    <a:ext cx="647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5710320" y="2463840"/>
          <a:ext cx="11779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0320" y="2463840"/>
                    <a:ext cx="1177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013440" y="2924280"/>
          <a:ext cx="1295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292428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9"/>
          <p:cNvSpPr/>
          <p:nvPr/>
        </p:nvSpPr>
        <p:spPr>
          <a:xfrm>
            <a:off x="5576760" y="198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504800" y="2564280"/>
            <a:ext cx="44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ая постоянна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56200" y="29959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ная по отношению к функц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205080" y="398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6784560" y="256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ункци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19" name="Object 14"/>
          <p:cNvGraphicFramePr/>
          <p:nvPr/>
        </p:nvGraphicFramePr>
        <p:xfrm>
          <a:off x="5219640" y="3573360"/>
          <a:ext cx="12970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573360"/>
                    <a:ext cx="129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7"/>
          <p:cNvGraphicFramePr/>
          <p:nvPr/>
        </p:nvGraphicFramePr>
        <p:xfrm>
          <a:off x="1332000" y="4365720"/>
          <a:ext cx="151128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365720"/>
                    <a:ext cx="1511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6"/>
          <p:cNvGraphicFramePr/>
          <p:nvPr/>
        </p:nvGraphicFramePr>
        <p:xfrm>
          <a:off x="3276720" y="4365720"/>
          <a:ext cx="21589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365720"/>
                    <a:ext cx="2158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1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27" name="Object 20"/>
          <p:cNvGraphicFramePr/>
          <p:nvPr/>
        </p:nvGraphicFramePr>
        <p:xfrm>
          <a:off x="6588000" y="4797360"/>
          <a:ext cx="79236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8000" y="4797360"/>
                    <a:ext cx="792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0" name="Object 22"/>
          <p:cNvGraphicFramePr/>
          <p:nvPr/>
        </p:nvGraphicFramePr>
        <p:xfrm>
          <a:off x="6084720" y="5229360"/>
          <a:ext cx="115128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229360"/>
                    <a:ext cx="1151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64F-4E3F-4EB8-8854-CAC95961D94E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395280" y="1844640"/>
          <a:ext cx="31669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3166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3672000" y="1989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где 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- произвольная постоянная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0" name="Object 7"/>
          <p:cNvGraphicFramePr/>
          <p:nvPr/>
        </p:nvGraphicFramePr>
        <p:xfrm>
          <a:off x="2340000" y="2924280"/>
          <a:ext cx="374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924280"/>
                    <a:ext cx="374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3924360" y="3500280"/>
          <a:ext cx="158436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500280"/>
                    <a:ext cx="1584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6" name="Object 11"/>
          <p:cNvGraphicFramePr/>
          <p:nvPr/>
        </p:nvGraphicFramePr>
        <p:xfrm>
          <a:off x="1403280" y="4292640"/>
          <a:ext cx="6624720" cy="207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292640"/>
                    <a:ext cx="6624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16B-7B72-4F64-ABC8-5C478512F1FF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611280" y="1700280"/>
          <a:ext cx="82818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818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7"/>
          <p:cNvSpPr/>
          <p:nvPr/>
        </p:nvSpPr>
        <p:spPr>
          <a:xfrm>
            <a:off x="585720" y="3356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2195640" y="3141720"/>
          <a:ext cx="223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141720"/>
                    <a:ext cx="223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7" name="Object 8"/>
          <p:cNvGraphicFramePr/>
          <p:nvPr/>
        </p:nvGraphicFramePr>
        <p:xfrm>
          <a:off x="3492360" y="4076640"/>
          <a:ext cx="223200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076640"/>
                    <a:ext cx="2232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324000" y="5084640"/>
          <a:ext cx="842472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84640"/>
                    <a:ext cx="842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56E-866C-4550-8150-613B6A869EA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395280" y="1844640"/>
          <a:ext cx="8280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539640" y="2637000"/>
          <a:ext cx="7775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637000"/>
                    <a:ext cx="7775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9"/>
          <p:cNvSpPr/>
          <p:nvPr/>
        </p:nvSpPr>
        <p:spPr>
          <a:xfrm>
            <a:off x="656640" y="4113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124000" y="3860640"/>
          <a:ext cx="48243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48243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числении интегралов ви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6760" y="2060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подстанов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Объект 7"/>
          <p:cNvGraphicFramePr/>
          <p:nvPr/>
        </p:nvGraphicFramePr>
        <p:xfrm>
          <a:off x="684360" y="2647800"/>
          <a:ext cx="150480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7800"/>
                    <a:ext cx="15048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Объект 9"/>
          <p:cNvGraphicFramePr/>
          <p:nvPr/>
        </p:nvGraphicFramePr>
        <p:xfrm>
          <a:off x="2340000" y="2790720"/>
          <a:ext cx="512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790720"/>
                    <a:ext cx="512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Объект 10"/>
          <p:cNvGraphicFramePr/>
          <p:nvPr/>
        </p:nvGraphicFramePr>
        <p:xfrm>
          <a:off x="3059280" y="2654280"/>
          <a:ext cx="222408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654280"/>
                    <a:ext cx="2224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Объект 11"/>
          <p:cNvGraphicFramePr/>
          <p:nvPr/>
        </p:nvGraphicFramePr>
        <p:xfrm>
          <a:off x="2712960" y="907920"/>
          <a:ext cx="362916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907920"/>
                    <a:ext cx="36291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Line 9"/>
          <p:cNvSpPr/>
          <p:nvPr/>
        </p:nvSpPr>
        <p:spPr>
          <a:xfrm flipH="1">
            <a:off x="4746600" y="3213000"/>
            <a:ext cx="1557360" cy="6476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5651640" y="2409840"/>
            <a:ext cx="3295440" cy="12128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Объект 15"/>
              <p:cNvSpPr txBox="1"/>
              <p:nvPr/>
            </p:nvSpPr>
            <p:spPr>
              <a:xfrm>
                <a:off x="6203880" y="25480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86" name="Объект 16"/>
          <p:cNvGraphicFramePr/>
          <p:nvPr/>
        </p:nvGraphicFramePr>
        <p:xfrm>
          <a:off x="539640" y="3268800"/>
          <a:ext cx="33530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268800"/>
                    <a:ext cx="3353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Объект 17"/>
          <p:cNvGraphicFramePr/>
          <p:nvPr/>
        </p:nvGraphicFramePr>
        <p:xfrm>
          <a:off x="468360" y="4581360"/>
          <a:ext cx="5972040" cy="12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Объект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81360"/>
                    <a:ext cx="59720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Объект 7"/>
          <p:cNvGraphicFramePr/>
          <p:nvPr/>
        </p:nvGraphicFramePr>
        <p:xfrm>
          <a:off x="4284720" y="620640"/>
          <a:ext cx="15714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620640"/>
                    <a:ext cx="1571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Объект 8"/>
          <p:cNvGraphicFramePr/>
          <p:nvPr/>
        </p:nvGraphicFramePr>
        <p:xfrm>
          <a:off x="2376360" y="2060640"/>
          <a:ext cx="19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2060640"/>
                    <a:ext cx="19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Объект 9"/>
          <p:cNvGraphicFramePr/>
          <p:nvPr/>
        </p:nvGraphicFramePr>
        <p:xfrm>
          <a:off x="826920" y="2852640"/>
          <a:ext cx="40690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52640"/>
                    <a:ext cx="406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Объект 10"/>
          <p:cNvGraphicFramePr/>
          <p:nvPr/>
        </p:nvGraphicFramePr>
        <p:xfrm>
          <a:off x="365040" y="3789360"/>
          <a:ext cx="54482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040" y="3789360"/>
                    <a:ext cx="5448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Овальная выноска 12"/>
          <p:cNvSpPr/>
          <p:nvPr/>
        </p:nvSpPr>
        <p:spPr>
          <a:xfrm>
            <a:off x="5364000" y="2349360"/>
            <a:ext cx="3600720" cy="1511280"/>
          </a:xfrm>
          <a:prstGeom prst="wedgeEllipseCallout">
            <a:avLst>
              <a:gd name="adj1" fmla="val -122009"/>
              <a:gd name="adj2" fmla="val 63986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0" name="Объект 14"/>
          <p:cNvGraphicFramePr/>
          <p:nvPr/>
        </p:nvGraphicFramePr>
        <p:xfrm>
          <a:off x="442800" y="5124600"/>
          <a:ext cx="3338640" cy="120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800" y="5124600"/>
                    <a:ext cx="3338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Box 15"/>
          <p:cNvSpPr/>
          <p:nvPr/>
        </p:nvSpPr>
        <p:spPr>
          <a:xfrm>
            <a:off x="4286520" y="5445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3" name="Объект 16"/>
          <p:cNvGraphicFramePr/>
          <p:nvPr/>
        </p:nvGraphicFramePr>
        <p:xfrm>
          <a:off x="5500800" y="5072040"/>
          <a:ext cx="2989080" cy="12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5072040"/>
                    <a:ext cx="29890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6031080" y="2548080"/>
          <a:ext cx="2266920" cy="11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31080" y="2548080"/>
                    <a:ext cx="22669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677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тригонометрических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Объект 5"/>
          <p:cNvGraphicFramePr/>
          <p:nvPr/>
        </p:nvGraphicFramePr>
        <p:xfrm>
          <a:off x="595440" y="2103480"/>
          <a:ext cx="4860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103480"/>
                    <a:ext cx="486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Объект 6"/>
          <p:cNvGraphicFramePr/>
          <p:nvPr/>
        </p:nvGraphicFramePr>
        <p:xfrm>
          <a:off x="826920" y="2781360"/>
          <a:ext cx="11271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1127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Box 7"/>
          <p:cNvSpPr/>
          <p:nvPr/>
        </p:nvSpPr>
        <p:spPr>
          <a:xfrm>
            <a:off x="2201760" y="27082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ные чис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2" name="Содержимое 8"/>
          <p:cNvGraphicFramePr/>
          <p:nvPr/>
        </p:nvGraphicFramePr>
        <p:xfrm>
          <a:off x="6012000" y="1844640"/>
          <a:ext cx="2836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Содержимое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2836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10"/>
          <p:cNvSpPr/>
          <p:nvPr/>
        </p:nvSpPr>
        <p:spPr>
          <a:xfrm>
            <a:off x="61848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550440" y="386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6" name="Объект 13"/>
          <p:cNvGraphicFramePr/>
          <p:nvPr/>
        </p:nvGraphicFramePr>
        <p:xfrm>
          <a:off x="2989440" y="3716280"/>
          <a:ext cx="1796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9440" y="3716280"/>
                    <a:ext cx="1796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9"/>
          <p:cNvSpPr/>
          <p:nvPr/>
        </p:nvSpPr>
        <p:spPr>
          <a:xfrm flipV="1">
            <a:off x="4859280" y="2708280"/>
            <a:ext cx="1297080" cy="14414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9" name="Объект 15"/>
          <p:cNvGraphicFramePr/>
          <p:nvPr/>
        </p:nvGraphicFramePr>
        <p:xfrm>
          <a:off x="338040" y="4437000"/>
          <a:ext cx="7547040" cy="10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040" y="4437000"/>
                    <a:ext cx="7547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Объект 16"/>
          <p:cNvGraphicFramePr/>
          <p:nvPr/>
        </p:nvGraphicFramePr>
        <p:xfrm>
          <a:off x="611280" y="5589720"/>
          <a:ext cx="6362640" cy="10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589720"/>
                    <a:ext cx="6362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Объект 5"/>
          <p:cNvGraphicFramePr/>
          <p:nvPr/>
        </p:nvGraphicFramePr>
        <p:xfrm>
          <a:off x="1835280" y="476280"/>
          <a:ext cx="3135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313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Объект 6"/>
          <p:cNvGraphicFramePr/>
          <p:nvPr/>
        </p:nvGraphicFramePr>
        <p:xfrm>
          <a:off x="6024600" y="587520"/>
          <a:ext cx="66816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4600" y="587520"/>
                    <a:ext cx="6681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Box 7"/>
          <p:cNvSpPr/>
          <p:nvPr/>
        </p:nvSpPr>
        <p:spPr>
          <a:xfrm>
            <a:off x="6660000" y="5191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ые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38" name="Объект 8"/>
          <p:cNvGraphicFramePr/>
          <p:nvPr/>
        </p:nvGraphicFramePr>
        <p:xfrm>
          <a:off x="2173320" y="1311120"/>
          <a:ext cx="41180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3320" y="1311120"/>
                    <a:ext cx="41180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Box 10"/>
          <p:cNvSpPr/>
          <p:nvPr/>
        </p:nvSpPr>
        <p:spPr>
          <a:xfrm>
            <a:off x="61848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41" name="Объект 11"/>
          <p:cNvGraphicFramePr/>
          <p:nvPr/>
        </p:nvGraphicFramePr>
        <p:xfrm>
          <a:off x="65160" y="2840040"/>
          <a:ext cx="7074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" y="2840040"/>
                    <a:ext cx="707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Объект 12"/>
          <p:cNvGraphicFramePr/>
          <p:nvPr/>
        </p:nvGraphicFramePr>
        <p:xfrm>
          <a:off x="179280" y="3789360"/>
          <a:ext cx="70279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789360"/>
                    <a:ext cx="702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3"/>
          <p:cNvGraphicFramePr/>
          <p:nvPr/>
        </p:nvGraphicFramePr>
        <p:xfrm>
          <a:off x="2268360" y="2125800"/>
          <a:ext cx="149544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6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125800"/>
                    <a:ext cx="1495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Объект 14"/>
          <p:cNvGraphicFramePr/>
          <p:nvPr/>
        </p:nvGraphicFramePr>
        <p:xfrm>
          <a:off x="201600" y="4708440"/>
          <a:ext cx="7612200" cy="69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8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" y="4708440"/>
                    <a:ext cx="7612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Прямоугольная выноска 15"/>
          <p:cNvSpPr/>
          <p:nvPr/>
        </p:nvSpPr>
        <p:spPr>
          <a:xfrm>
            <a:off x="7308720" y="3213000"/>
            <a:ext cx="1511280" cy="755640"/>
          </a:xfrm>
          <a:prstGeom prst="wedgeRectCallout">
            <a:avLst>
              <a:gd name="adj1" fmla="val -66550"/>
              <a:gd name="adj2" fmla="val 141930"/>
            </a:avLst>
          </a:prstGeom>
          <a:solidFill>
            <a:srgbClr val="00b0f0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0" name="Объект 16"/>
          <p:cNvGraphicFramePr/>
          <p:nvPr/>
        </p:nvGraphicFramePr>
        <p:xfrm>
          <a:off x="7362720" y="3409920"/>
          <a:ext cx="1403280" cy="36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2720" y="3409920"/>
                    <a:ext cx="1403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Объект 17"/>
          <p:cNvGraphicFramePr/>
          <p:nvPr/>
        </p:nvGraphicFramePr>
        <p:xfrm>
          <a:off x="534960" y="5502240"/>
          <a:ext cx="587844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Объект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4960" y="5502240"/>
                    <a:ext cx="58784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 разности первообразны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            удовлетвор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 теоремы Лагран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1916280"/>
                <a:ext cx="333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образны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539640" y="1844640"/>
            <a:ext cx="3490920" cy="792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580000" y="1989000"/>
                <a:ext cx="245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5508720" y="1952640"/>
            <a:ext cx="2592360" cy="468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997360" y="3068640"/>
                <a:ext cx="226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867280" y="3068640"/>
                <a:ext cx="1978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955880" y="3789360"/>
                <a:ext cx="660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281240" y="4668840"/>
                <a:ext cx="39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1411200" y="5262480"/>
                <a:ext cx="334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508720" y="5084640"/>
                <a:ext cx="361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Line 17"/>
          <p:cNvSpPr/>
          <p:nvPr/>
        </p:nvSpPr>
        <p:spPr>
          <a:xfrm>
            <a:off x="4932360" y="5013360"/>
            <a:ext cx="0" cy="136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5076720" y="5587920"/>
            <a:ext cx="3603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4211640" y="2023920"/>
            <a:ext cx="1044720" cy="43344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Объект 5"/>
          <p:cNvGraphicFramePr/>
          <p:nvPr/>
        </p:nvGraphicFramePr>
        <p:xfrm>
          <a:off x="2050920" y="333360"/>
          <a:ext cx="45007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500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Прямоугольник 6"/>
          <p:cNvSpPr/>
          <p:nvPr/>
        </p:nvSpPr>
        <p:spPr>
          <a:xfrm>
            <a:off x="1765440" y="162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7" name="Объект 7"/>
          <p:cNvGraphicFramePr/>
          <p:nvPr/>
        </p:nvGraphicFramePr>
        <p:xfrm>
          <a:off x="3255840" y="1393920"/>
          <a:ext cx="4251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1393920"/>
                    <a:ext cx="4251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Рисунок 8" descr="Изображение:Q11.png‎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249720"/>
            <a:ext cx="8999640" cy="1474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60" name="Прямоугольник 9"/>
          <p:cNvSpPr/>
          <p:nvPr/>
        </p:nvSpPr>
        <p:spPr>
          <a:xfrm>
            <a:off x="40248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Дуга 11"/>
          <p:cNvSpPr/>
          <p:nvPr/>
        </p:nvSpPr>
        <p:spPr>
          <a:xfrm rot="18030000">
            <a:off x="4201200" y="3368880"/>
            <a:ext cx="1765080" cy="1224000"/>
          </a:xfrm>
          <a:custGeom>
            <a:avLst/>
            <a:gdLst/>
            <a:ahLst/>
            <a:rect l="l" t="t" r="r" b="b"/>
            <a:pathLst>
              <a:path stroke="0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  <a:lnTo>
                  <a:pt x="882650" y="611981"/>
                </a:lnTo>
                <a:lnTo>
                  <a:pt x="682565" y="15931"/>
                </a:lnTo>
                <a:close/>
              </a:path>
              <a:path fill="none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гонометрическая под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68360" y="1484280"/>
          <a:ext cx="8424720" cy="40323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Объект 7"/>
          <p:cNvGraphicFramePr/>
          <p:nvPr/>
        </p:nvGraphicFramePr>
        <p:xfrm>
          <a:off x="1835280" y="321300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1300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Объект 8"/>
          <p:cNvGraphicFramePr/>
          <p:nvPr/>
        </p:nvGraphicFramePr>
        <p:xfrm>
          <a:off x="1908000" y="4005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05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Объект 9"/>
          <p:cNvGraphicFramePr/>
          <p:nvPr/>
        </p:nvGraphicFramePr>
        <p:xfrm>
          <a:off x="1908000" y="4724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24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Объект 10"/>
          <p:cNvGraphicFramePr/>
          <p:nvPr/>
        </p:nvGraphicFramePr>
        <p:xfrm>
          <a:off x="5076720" y="3284640"/>
          <a:ext cx="191160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284640"/>
                    <a:ext cx="191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11"/>
          <p:cNvGraphicFramePr/>
          <p:nvPr/>
        </p:nvGraphicFramePr>
        <p:xfrm>
          <a:off x="5327640" y="4111560"/>
          <a:ext cx="16938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27640" y="4111560"/>
                    <a:ext cx="169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Объект 12"/>
          <p:cNvGraphicFramePr/>
          <p:nvPr/>
        </p:nvGraphicFramePr>
        <p:xfrm>
          <a:off x="5094360" y="4869000"/>
          <a:ext cx="21636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4869000"/>
                    <a:ext cx="2163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Объект 5"/>
          <p:cNvGraphicFramePr/>
          <p:nvPr/>
        </p:nvGraphicFramePr>
        <p:xfrm>
          <a:off x="1781280" y="54936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4936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Объект 6"/>
          <p:cNvGraphicFramePr/>
          <p:nvPr/>
        </p:nvGraphicFramePr>
        <p:xfrm>
          <a:off x="4130640" y="476280"/>
          <a:ext cx="1911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0640" y="476280"/>
                    <a:ext cx="191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Прямая соединительная линия 8"/>
          <p:cNvSpPr/>
          <p:nvPr/>
        </p:nvSpPr>
        <p:spPr>
          <a:xfrm>
            <a:off x="1042920" y="1916280"/>
            <a:ext cx="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Прямая соединительная линия 10"/>
          <p:cNvSpPr/>
          <p:nvPr/>
        </p:nvSpPr>
        <p:spPr>
          <a:xfrm>
            <a:off x="971640" y="3789360"/>
            <a:ext cx="3744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1054080" y="1916280"/>
            <a:ext cx="374328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Дуга 14"/>
          <p:cNvSpPr/>
          <p:nvPr/>
        </p:nvSpPr>
        <p:spPr>
          <a:xfrm rot="14131200">
            <a:off x="3993120" y="3530880"/>
            <a:ext cx="503280" cy="431640"/>
          </a:xfrm>
          <a:custGeom>
            <a:avLst/>
            <a:gdLst/>
            <a:ahLst/>
            <a:rect l="l" t="t" r="r" b="b"/>
            <a:pathLst>
              <a:path stroke="0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  <a:lnTo>
                  <a:pt x="251619" y="215900"/>
                </a:lnTo>
                <a:lnTo>
                  <a:pt x="321924" y="8599"/>
                </a:lnTo>
                <a:close/>
              </a:path>
              <a:path fill="none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</a:path>
            </a:pathLst>
          </a:cu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84" name="Объект 15"/>
          <p:cNvGraphicFramePr/>
          <p:nvPr/>
        </p:nvGraphicFramePr>
        <p:xfrm>
          <a:off x="3525840" y="3284640"/>
          <a:ext cx="3967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Объект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284640"/>
                    <a:ext cx="39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Объект 16"/>
          <p:cNvGraphicFramePr/>
          <p:nvPr/>
        </p:nvGraphicFramePr>
        <p:xfrm>
          <a:off x="755640" y="2654280"/>
          <a:ext cx="3603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65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Объект 17"/>
          <p:cNvGraphicFramePr/>
          <p:nvPr/>
        </p:nvGraphicFramePr>
        <p:xfrm>
          <a:off x="2565360" y="2349360"/>
          <a:ext cx="3603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5360" y="2349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Объект 18"/>
          <p:cNvGraphicFramePr/>
          <p:nvPr/>
        </p:nvGraphicFramePr>
        <p:xfrm>
          <a:off x="5076720" y="2060640"/>
          <a:ext cx="3808440" cy="19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060640"/>
                    <a:ext cx="3808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Объект 19"/>
          <p:cNvGraphicFramePr/>
          <p:nvPr/>
        </p:nvGraphicFramePr>
        <p:xfrm>
          <a:off x="1407960" y="3144960"/>
          <a:ext cx="140364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3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7960" y="31449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Объект 20"/>
          <p:cNvGraphicFramePr/>
          <p:nvPr/>
        </p:nvGraphicFramePr>
        <p:xfrm>
          <a:off x="4125960" y="1339920"/>
          <a:ext cx="38782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5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25960" y="1339920"/>
                    <a:ext cx="387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Объект 22"/>
          <p:cNvGraphicFramePr/>
          <p:nvPr/>
        </p:nvGraphicFramePr>
        <p:xfrm>
          <a:off x="1017720" y="4067280"/>
          <a:ext cx="6554520" cy="26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Объект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4067280"/>
                    <a:ext cx="65545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Объект 5"/>
          <p:cNvGraphicFramePr/>
          <p:nvPr/>
        </p:nvGraphicFramePr>
        <p:xfrm>
          <a:off x="1571760" y="692280"/>
          <a:ext cx="75373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692280"/>
                    <a:ext cx="7537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"/>
          <p:cNvSpPr/>
          <p:nvPr/>
        </p:nvSpPr>
        <p:spPr>
          <a:xfrm>
            <a:off x="2961720" y="5950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01" name="Объект 7"/>
          <p:cNvGraphicFramePr/>
          <p:nvPr/>
        </p:nvGraphicFramePr>
        <p:xfrm>
          <a:off x="4211640" y="5635800"/>
          <a:ext cx="46497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635800"/>
                    <a:ext cx="4649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Интегрирование по ча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195640" y="2492280"/>
                <a:ext cx="439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2843280" y="4076640"/>
                <a:ext cx="2282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dv</m:t>
                        </m:r>
                        <m:r>
                          <m:t xml:space="preserve">=</m:t>
                        </m:r>
                        <m: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8"/>
          <p:cNvGrpSpPr/>
          <p:nvPr/>
        </p:nvGrpSpPr>
        <p:grpSpPr>
          <a:xfrm>
            <a:off x="3552120" y="2276640"/>
            <a:ext cx="1570680" cy="515160"/>
            <a:chOff x="3552120" y="2276640"/>
            <a:chExt cx="1570680" cy="515160"/>
          </a:xfrm>
        </p:grpSpPr>
        <p:sp>
          <p:nvSpPr>
            <p:cNvPr id="610" name="Freeform 8"/>
            <p:cNvSpPr/>
            <p:nvPr/>
          </p:nvSpPr>
          <p:spPr>
            <a:xfrm>
              <a:off x="4211640" y="2276640"/>
              <a:ext cx="911160" cy="5047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64" h="390">
                  <a:moveTo>
                    <a:pt x="336" y="22"/>
                  </a:moveTo>
                  <a:cubicBezTo>
                    <a:pt x="301" y="34"/>
                    <a:pt x="323" y="32"/>
                    <a:pt x="288" y="22"/>
                  </a:cubicBezTo>
                  <a:cubicBezTo>
                    <a:pt x="267" y="16"/>
                    <a:pt x="224" y="6"/>
                    <a:pt x="224" y="6"/>
                  </a:cubicBezTo>
                  <a:cubicBezTo>
                    <a:pt x="176" y="22"/>
                    <a:pt x="219" y="0"/>
                    <a:pt x="192" y="54"/>
                  </a:cubicBezTo>
                  <a:cubicBezTo>
                    <a:pt x="178" y="81"/>
                    <a:pt x="161" y="80"/>
                    <a:pt x="136" y="86"/>
                  </a:cubicBezTo>
                  <a:cubicBezTo>
                    <a:pt x="123" y="83"/>
                    <a:pt x="110" y="77"/>
                    <a:pt x="96" y="78"/>
                  </a:cubicBezTo>
                  <a:cubicBezTo>
                    <a:pt x="74" y="80"/>
                    <a:pt x="32" y="94"/>
                    <a:pt x="32" y="94"/>
                  </a:cubicBezTo>
                  <a:cubicBezTo>
                    <a:pt x="13" y="150"/>
                    <a:pt x="11" y="126"/>
                    <a:pt x="24" y="166"/>
                  </a:cubicBezTo>
                  <a:cubicBezTo>
                    <a:pt x="18" y="231"/>
                    <a:pt x="0" y="348"/>
                    <a:pt x="64" y="390"/>
                  </a:cubicBezTo>
                  <a:cubicBezTo>
                    <a:pt x="196" y="346"/>
                    <a:pt x="287" y="355"/>
                    <a:pt x="440" y="350"/>
                  </a:cubicBezTo>
                  <a:cubicBezTo>
                    <a:pt x="503" y="344"/>
                    <a:pt x="587" y="354"/>
                    <a:pt x="640" y="318"/>
                  </a:cubicBezTo>
                  <a:cubicBezTo>
                    <a:pt x="649" y="291"/>
                    <a:pt x="655" y="265"/>
                    <a:pt x="664" y="238"/>
                  </a:cubicBezTo>
                  <a:cubicBezTo>
                    <a:pt x="657" y="180"/>
                    <a:pt x="647" y="157"/>
                    <a:pt x="656" y="102"/>
                  </a:cubicBezTo>
                  <a:cubicBezTo>
                    <a:pt x="632" y="30"/>
                    <a:pt x="458" y="48"/>
                    <a:pt x="424" y="46"/>
                  </a:cubicBezTo>
                  <a:cubicBezTo>
                    <a:pt x="421" y="33"/>
                    <a:pt x="428" y="13"/>
                    <a:pt x="416" y="6"/>
                  </a:cubicBezTo>
                  <a:cubicBezTo>
                    <a:pt x="410" y="3"/>
                    <a:pt x="348" y="19"/>
                    <a:pt x="336" y="22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0990200">
              <a:off x="3563640" y="2349000"/>
              <a:ext cx="393480" cy="432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02" h="254">
                  <a:moveTo>
                    <a:pt x="66" y="0"/>
                  </a:moveTo>
                  <a:cubicBezTo>
                    <a:pt x="61" y="24"/>
                    <a:pt x="59" y="49"/>
                    <a:pt x="50" y="72"/>
                  </a:cubicBezTo>
                  <a:cubicBezTo>
                    <a:pt x="43" y="90"/>
                    <a:pt x="24" y="102"/>
                    <a:pt x="18" y="120"/>
                  </a:cubicBezTo>
                  <a:cubicBezTo>
                    <a:pt x="15" y="128"/>
                    <a:pt x="13" y="136"/>
                    <a:pt x="10" y="144"/>
                  </a:cubicBezTo>
                  <a:cubicBezTo>
                    <a:pt x="7" y="163"/>
                    <a:pt x="0" y="181"/>
                    <a:pt x="2" y="200"/>
                  </a:cubicBezTo>
                  <a:cubicBezTo>
                    <a:pt x="3" y="210"/>
                    <a:pt x="16" y="215"/>
                    <a:pt x="18" y="224"/>
                  </a:cubicBezTo>
                  <a:cubicBezTo>
                    <a:pt x="19" y="232"/>
                    <a:pt x="2" y="247"/>
                    <a:pt x="10" y="248"/>
                  </a:cubicBezTo>
                  <a:cubicBezTo>
                    <a:pt x="55" y="254"/>
                    <a:pt x="101" y="243"/>
                    <a:pt x="146" y="240"/>
                  </a:cubicBezTo>
                  <a:cubicBezTo>
                    <a:pt x="174" y="221"/>
                    <a:pt x="191" y="208"/>
                    <a:pt x="202" y="176"/>
                  </a:cubicBezTo>
                  <a:cubicBezTo>
                    <a:pt x="195" y="127"/>
                    <a:pt x="201" y="106"/>
                    <a:pt x="162" y="80"/>
                  </a:cubicBezTo>
                  <a:cubicBezTo>
                    <a:pt x="147" y="58"/>
                    <a:pt x="147" y="51"/>
                    <a:pt x="122" y="40"/>
                  </a:cubicBezTo>
                  <a:cubicBezTo>
                    <a:pt x="65" y="15"/>
                    <a:pt x="29" y="37"/>
                    <a:pt x="66" y="0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1692360" y="2205000"/>
                <a:ext cx="1434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1908000" y="3429000"/>
                <a:ext cx="3808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6"/>
              <p:cNvSpPr txBox="1"/>
              <p:nvPr/>
            </p:nvSpPr>
            <p:spPr>
              <a:xfrm>
                <a:off x="1835280" y="4221000"/>
                <a:ext cx="284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9"/>
          <p:cNvSpPr/>
          <p:nvPr/>
        </p:nvSpPr>
        <p:spPr>
          <a:xfrm>
            <a:off x="6711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3708360" y="2781360"/>
            <a:ext cx="7164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3780000" y="2781360"/>
            <a:ext cx="7128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708360" y="2997360"/>
            <a:ext cx="1157400" cy="360360"/>
            <a:chOff x="3708360" y="2997360"/>
            <a:chExt cx="1157400" cy="360360"/>
          </a:xfrm>
        </p:grpSpPr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708360" y="2997360"/>
                  <a:ext cx="3272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4572000" y="2997360"/>
                  <a:ext cx="2937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2" name="Line 14"/>
          <p:cNvSpPr/>
          <p:nvPr/>
        </p:nvSpPr>
        <p:spPr>
          <a:xfrm>
            <a:off x="4500720" y="2852640"/>
            <a:ext cx="14256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4572000" y="2852640"/>
            <a:ext cx="14292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6"/>
              <p:cNvSpPr txBox="1"/>
              <p:nvPr/>
            </p:nvSpPr>
            <p:spPr>
              <a:xfrm>
                <a:off x="3203640" y="2205000"/>
                <a:ext cx="2371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грирование по ч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195640" y="2133720"/>
                <a:ext cx="439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6"/>
              <p:cNvSpPr txBox="1"/>
              <p:nvPr/>
            </p:nvSpPr>
            <p:spPr>
              <a:xfrm>
                <a:off x="2484360" y="3429000"/>
                <a:ext cx="2879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7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8"/>
              <p:cNvSpPr txBox="1"/>
              <p:nvPr/>
            </p:nvSpPr>
            <p:spPr>
              <a:xfrm>
                <a:off x="3708360" y="595008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9"/>
              <p:cNvSpPr txBox="1"/>
              <p:nvPr/>
            </p:nvSpPr>
            <p:spPr>
              <a:xfrm>
                <a:off x="2556000" y="4221000"/>
                <a:ext cx="377496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Line 10"/>
          <p:cNvSpPr/>
          <p:nvPr/>
        </p:nvSpPr>
        <p:spPr>
          <a:xfrm>
            <a:off x="5508720" y="4076640"/>
            <a:ext cx="1295280" cy="50472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 flipV="1">
            <a:off x="6300720" y="4723920"/>
            <a:ext cx="504720" cy="57636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6950520" y="450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66"/>
                </a:solidFill>
                <a:latin typeface="Arial"/>
              </a:rPr>
              <a:t>Ч.т.д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6877080" y="4508640"/>
            <a:ext cx="719280" cy="287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H="1" flipV="1">
            <a:off x="3348000" y="5661000"/>
            <a:ext cx="574560" cy="287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076720" y="5084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13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            первообразная для              в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любая другая первообраз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пределенным интеграл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х первообраз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340000" y="2133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4284720" y="213372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4965840" y="2133720"/>
                <a:ext cx="745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340000" y="2565360"/>
                <a:ext cx="1684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4859280" y="328464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556000" y="3860640"/>
                <a:ext cx="2158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Rectangle 12"/>
          <p:cNvSpPr/>
          <p:nvPr/>
        </p:nvSpPr>
        <p:spPr>
          <a:xfrm>
            <a:off x="2556000" y="3860640"/>
            <a:ext cx="2160360" cy="863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17720" y="5084640"/>
                <a:ext cx="2282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 Box 14"/>
          <p:cNvSpPr/>
          <p:nvPr/>
        </p:nvSpPr>
        <p:spPr>
          <a:xfrm>
            <a:off x="5796000" y="3933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фическая иллюстрация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796000" y="3933720"/>
            <a:ext cx="2521080" cy="3589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877080" y="4653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6360" y="5445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rc 19"/>
          <p:cNvSpPr/>
          <p:nvPr/>
        </p:nvSpPr>
        <p:spPr>
          <a:xfrm flipV="1">
            <a:off x="6443640" y="544500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Arc 20"/>
          <p:cNvSpPr/>
          <p:nvPr/>
        </p:nvSpPr>
        <p:spPr>
          <a:xfrm flipV="1">
            <a:off x="6443640" y="558900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rc 21"/>
          <p:cNvSpPr/>
          <p:nvPr/>
        </p:nvSpPr>
        <p:spPr>
          <a:xfrm>
            <a:off x="7308720" y="5229360"/>
            <a:ext cx="865440" cy="215640"/>
          </a:xfrm>
          <a:custGeom>
            <a:avLst/>
            <a:gdLst>
              <a:gd name="textAreaLeft" fmla="*/ 0 w 865440"/>
              <a:gd name="textAreaRight" fmla="*/ 865800 w 865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rc 22"/>
          <p:cNvSpPr/>
          <p:nvPr/>
        </p:nvSpPr>
        <p:spPr>
          <a:xfrm flipV="1">
            <a:off x="6443640" y="573408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rc 23"/>
          <p:cNvSpPr/>
          <p:nvPr/>
        </p:nvSpPr>
        <p:spPr>
          <a:xfrm flipV="1">
            <a:off x="6372360" y="4797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Arc 24"/>
          <p:cNvSpPr/>
          <p:nvPr/>
        </p:nvSpPr>
        <p:spPr>
          <a:xfrm flipV="1">
            <a:off x="637236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rc 25"/>
          <p:cNvSpPr/>
          <p:nvPr/>
        </p:nvSpPr>
        <p:spPr>
          <a:xfrm flipV="1">
            <a:off x="6372360" y="522864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rc 26"/>
          <p:cNvSpPr/>
          <p:nvPr/>
        </p:nvSpPr>
        <p:spPr>
          <a:xfrm>
            <a:off x="7308720" y="537372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rc 27"/>
          <p:cNvSpPr/>
          <p:nvPr/>
        </p:nvSpPr>
        <p:spPr>
          <a:xfrm>
            <a:off x="7308720" y="551664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Arc 28"/>
          <p:cNvSpPr/>
          <p:nvPr/>
        </p:nvSpPr>
        <p:spPr>
          <a:xfrm>
            <a:off x="723600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>
            <a:off x="7236000" y="4724280"/>
            <a:ext cx="865080" cy="287280"/>
          </a:xfrm>
          <a:custGeom>
            <a:avLst/>
            <a:gdLst>
              <a:gd name="textAreaLeft" fmla="*/ 0 w 865080"/>
              <a:gd name="textAreaRight" fmla="*/ 865440 w 86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rc 30"/>
          <p:cNvSpPr/>
          <p:nvPr/>
        </p:nvSpPr>
        <p:spPr>
          <a:xfrm>
            <a:off x="7236000" y="4581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6372360" y="544500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637236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824400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22944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17380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8244000" y="4941720"/>
                <a:ext cx="826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0"/>
          <p:cNvSpPr/>
          <p:nvPr/>
        </p:nvSpPr>
        <p:spPr>
          <a:xfrm>
            <a:off x="8244000" y="4941720"/>
            <a:ext cx="826920" cy="287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8172360" y="5229360"/>
            <a:ext cx="503280" cy="727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8459640" y="544500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589440" y="44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482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сновных интегр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6443640" y="3573360"/>
                <a:ext cx="95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195640" y="2276640"/>
                <a:ext cx="103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124000" y="3041640"/>
                <a:ext cx="256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124000" y="3860640"/>
                <a:ext cx="151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124000" y="450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2124000" y="5273640"/>
                <a:ext cx="1735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9"/>
          <p:cNvSpPr/>
          <p:nvPr/>
        </p:nvSpPr>
        <p:spPr>
          <a:xfrm>
            <a:off x="5487840" y="1843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084720" y="32130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6443640" y="3860640"/>
                <a:ext cx="1550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Text Box 23"/>
          <p:cNvSpPr/>
          <p:nvPr/>
        </p:nvSpPr>
        <p:spPr>
          <a:xfrm>
            <a:off x="6280200" y="155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590080" y="2730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первообразная д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5716440" y="2225520"/>
                <a:ext cx="274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6"/>
              <p:cNvSpPr txBox="1"/>
              <p:nvPr/>
            </p:nvSpPr>
            <p:spPr>
              <a:xfrm>
                <a:off x="7659720" y="2708280"/>
                <a:ext cx="687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7"/>
          <p:cNvSpPr/>
          <p:nvPr/>
        </p:nvSpPr>
        <p:spPr>
          <a:xfrm>
            <a:off x="5435640" y="2205000"/>
            <a:ext cx="3097080" cy="10080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8"/>
              <p:cNvSpPr txBox="1"/>
              <p:nvPr/>
            </p:nvSpPr>
            <p:spPr>
              <a:xfrm>
                <a:off x="6443640" y="4282920"/>
                <a:ext cx="1727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9"/>
              <p:cNvSpPr txBox="1"/>
              <p:nvPr/>
            </p:nvSpPr>
            <p:spPr>
              <a:xfrm>
                <a:off x="6443640" y="4638600"/>
                <a:ext cx="1357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6443640" y="5062680"/>
                <a:ext cx="1157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6429240" y="5850000"/>
                <a:ext cx="1811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32"/>
          <p:cNvSpPr/>
          <p:nvPr/>
        </p:nvSpPr>
        <p:spPr>
          <a:xfrm>
            <a:off x="807372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6429240" y="5805360"/>
            <a:ext cx="1968480" cy="863640"/>
          </a:xfrm>
          <a:prstGeom prst="rect">
            <a:avLst/>
          </a:prstGeom>
          <a:noFill/>
          <a:ln w="648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2279520" y="1360440"/>
                <a:ext cx="235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2340000" y="2205000"/>
                <a:ext cx="20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2340000" y="2997360"/>
                <a:ext cx="183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340000" y="3716280"/>
                <a:ext cx="1989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357280" y="4724280"/>
                <a:ext cx="2503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408400" y="5661000"/>
                <a:ext cx="2663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6013440" y="2997360"/>
                <a:ext cx="1511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3"/>
          <p:cNvSpPr/>
          <p:nvPr/>
        </p:nvSpPr>
        <p:spPr>
          <a:xfrm>
            <a:off x="1187280" y="4508640"/>
            <a:ext cx="5904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076720" y="3284640"/>
            <a:ext cx="647640" cy="144360"/>
          </a:xfrm>
          <a:prstGeom prst="leftArrow">
            <a:avLst>
              <a:gd name="adj1" fmla="val 50000"/>
              <a:gd name="adj2" fmla="val 11215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5940360" y="159228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AutoShape 27"/>
          <p:cNvSpPr/>
          <p:nvPr/>
        </p:nvSpPr>
        <p:spPr>
          <a:xfrm>
            <a:off x="4861080" y="17002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724360" y="4797360"/>
                <a:ext cx="180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1412640"/>
            <a:ext cx="5784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411280" y="1916280"/>
                <a:ext cx="3294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6"/>
          <p:cNvGraphicFramePr/>
          <p:nvPr/>
        </p:nvGraphicFramePr>
        <p:xfrm>
          <a:off x="2556000" y="5084640"/>
          <a:ext cx="29718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084640"/>
                    <a:ext cx="2971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2556000" y="357336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неопределенных интегралов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интегр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Линей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1763640" y="2276640"/>
                <a:ext cx="189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4716360" y="2349360"/>
                <a:ext cx="2540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1835280" y="3141720"/>
                <a:ext cx="243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5003640" y="3141720"/>
                <a:ext cx="2190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755640" y="4578480"/>
                <a:ext cx="416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619280" y="5349960"/>
                <a:ext cx="286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AutoShape 20"/>
          <p:cNvSpPr/>
          <p:nvPr/>
        </p:nvSpPr>
        <p:spPr>
          <a:xfrm>
            <a:off x="5256360" y="4363920"/>
            <a:ext cx="72720" cy="1800360"/>
          </a:xfrm>
          <a:custGeom>
            <a:avLst/>
            <a:gdLst>
              <a:gd name="textAreaLeft" fmla="*/ 0 w 72720"/>
              <a:gd name="textAreaRight" fmla="*/ 26280 w 72720"/>
              <a:gd name="textAreaTop" fmla="*/ 33480 h 1800360"/>
              <a:gd name="textAreaBottom" fmla="*/ 17668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5940360" y="4437000"/>
                <a:ext cx="3149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22"/>
          <p:cNvSpPr/>
          <p:nvPr/>
        </p:nvSpPr>
        <p:spPr>
          <a:xfrm>
            <a:off x="6012000" y="4437000"/>
            <a:ext cx="2952720" cy="21970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5508720" y="508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248440" y="1773360"/>
                <a:ext cx="37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195640" y="3670200"/>
                <a:ext cx="444168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±</m:t>
                                    </m:r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2293920" y="2548080"/>
                <a:ext cx="3583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Line 9"/>
          <p:cNvSpPr/>
          <p:nvPr/>
        </p:nvSpPr>
        <p:spPr>
          <a:xfrm>
            <a:off x="6012000" y="3141720"/>
            <a:ext cx="1412640" cy="64764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6848640" y="3989520"/>
            <a:ext cx="576000" cy="57600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451640" y="37497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.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451640" y="3789360"/>
            <a:ext cx="865440" cy="3999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20:41Z</dcterms:created>
  <dc:creator>Asus</dc:creator>
  <dc:description/>
  <dc:language>en-US</dc:language>
  <cp:lastModifiedBy>Пользователь</cp:lastModifiedBy>
  <dcterms:modified xsi:type="dcterms:W3CDTF">2018-07-01T12:49:06Z</dcterms:modified>
  <cp:revision>98</cp:revision>
  <dc:subject/>
  <dc:title>Интегральное исчисление</dc:title>
</cp:coreProperties>
</file>